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886-D40F-4BEA-AFD4-6E69965B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093-7BF8-404B-B52D-8586B5C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600-AC54-4D02-9D41-0851A997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475-1F01-4CF3-A404-C8C86049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0A4-89DF-4C09-A83B-7C7F8C1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41C-771B-4EFA-A64E-38805D2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BD85-8E04-4243-991C-8C3F1060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DF20-71C2-4639-BB67-5F2FEAA4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FE0-BAB5-41E3-A16C-007A5E4F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4676-698A-4B89-967B-37D6879F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149-CD3F-4D8F-AA1F-1D18328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86E-BFC3-4237-A497-E04DEC7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1CDA-FFE2-48DA-B62B-B01987A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7EEF-0B27-44DB-A812-306952B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D449-D949-45E4-8E99-D20C709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84A1-854F-4EB7-AFFA-7E0EE2BF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1F81-BFF8-49D5-ADDB-7789E85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019-1794-4967-B259-D65E346E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DC3-AAD3-4FA4-AFCD-DCA61CF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344-FDA3-41D8-8C40-215B6BA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C7D-E6E0-41D5-9D0B-48BFE7B5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0C1-C3F2-4408-B4EC-4C9DA83C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698-890D-4580-92A3-CAFEEE3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D51-78A2-4D1B-8682-96E248D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8A2F-5C17-429D-BC98-F910A1EB5F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D216-FCF7-4DB9-8503-07EC779CBA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g. 3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-Fun Stu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 Unit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een nefertit and her husband king amonhotep iv who came to power in egypt in 1367. They built the city of akhetaton in honer of the egyptian sun god at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like the south better than the north, however if I had to travel east, I would go to new york city. The capitol of the united states from 1785 to 179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ngible:touch::audible:___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x:Sly_________:w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swer K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een Nefertit and her husband, King Amonhotep IV, who came to power in Egypt in 1367, built the city of akhetaton in honor of the Egyptian sun god At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ike the South better than the North, however, if I had to travel east, I would go to New York City, the capitol of the United States from 1785 to 1790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8:21Z</dcterms:created>
  <dc:creator>VMS</dc:creator>
  <dc:description/>
  <dc:language>en-US</dc:language>
  <cp:lastModifiedBy>student</cp:lastModifiedBy>
  <dcterms:modified xsi:type="dcterms:W3CDTF">2010-08-27T19:20:06Z</dcterms:modified>
  <cp:revision>2</cp:revision>
  <dc:subject/>
  <dc:title>Aug. 31</dc:title>
</cp:coreProperties>
</file>